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239-B7E9-4E8B-8F31-A1B8A36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B52-FE65-42F0-A1EC-7C5D01D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10E-3D69-41FD-BE8D-AEFB5089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094-62A1-4E4F-93FD-B66E33DE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91C-CFFA-4302-9675-22B4FA8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C33-16B0-4666-8F64-13F970C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72E-6500-4D6C-98FF-F96A7A8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A1E-B4F3-48F8-8BAE-BB184FA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585-E843-4AF7-86D6-F1C4791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D26-F930-499F-87AF-A31D4E8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A44-D4E7-4C37-A9AE-CC4FD64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AB7-6AB7-492C-ACAE-0CFBEE3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A19-3F58-4350-82C3-9BDC7671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557360"/>
            <a:ext cx="7139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IS PROJECT WAS COMPLETED B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JOHN STOCKBRIDG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3141720"/>
            <a:ext cx="437184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&amp;JOR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TO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ed to find out about children’s litter dropping habits. Our question was:   Do younger children drop more litter than older childr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we choose to do this ques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sometimes had litter in our hands and didn’t know what to do with it, particularly if we didn’t have pockets in our shorts and there was no bin a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ondered what others would do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0"/>
            <a:ext cx="297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photos of litter around the school and in the wr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Questionna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questionnaires to children in yea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questionnaires to children in years 1+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thod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260280"/>
            <a:ext cx="824364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loted the questionnai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iloted the questionnaire first.  This means that we gave the questionnaire out to a few children to see if it was a good questionnaire.  We needed to find out if the questionnaire could be improved.  We didn’t want to use words that would be too difficult for younger children, for exa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we find ou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year 5 questionn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/20 children drop li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20 do it 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 never dr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20 put rubbish in the bu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years 1&amp;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/20 said they never drop l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0 said they drop litter once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ain conclusion was that young children, in years 1 and 2, do NOT drop as much litter as older childr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3:42:57Z</dcterms:created>
  <dc:creator>supervisor</dc:creator>
  <dc:description/>
  <dc:language>en-US</dc:language>
  <cp:lastModifiedBy>supervisor</cp:lastModifiedBy>
  <dcterms:modified xsi:type="dcterms:W3CDTF">2007-07-12T14:25:28Z</dcterms:modified>
  <cp:revision>6</cp:revision>
  <dc:subject/>
  <dc:title>Slide 1</dc:title>
</cp:coreProperties>
</file>